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343-1F03-4C54-BCC4-2E2FAB90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28E-FA5C-4745-9F9D-8B6FF9DB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F28-3B72-484F-918D-45BED26F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6C7-3727-4905-853B-076A11D6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B17-F818-46B0-ABE3-79A32511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463-9AEB-42E3-99D8-085F7376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BDA-2B1F-46DA-96FA-C74A833E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3BC-072B-4EFC-A1F0-6C01012D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C27-460E-40F0-99E9-A2C92C91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BFF-F9E5-40AB-8C75-3DB28497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421-BD07-4750-BE04-69C87569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59B-FF7B-468C-925F-5488E6F7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D25F-B445-4A18-8E04-A261A1828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43280" y="0"/>
            <a:ext cx="52578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1792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63400"/>
            <a:ext cx="9144000" cy="5731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10002" r="0" b="6670"/>
          <a:stretch/>
        </p:blipFill>
        <p:spPr>
          <a:xfrm>
            <a:off x="3657600" y="1523880"/>
            <a:ext cx="153684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934320" y="685800"/>
            <a:ext cx="1346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6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717480" cy="106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273320" cy="16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15200" y="533520"/>
            <a:ext cx="91440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3:15:18Z</dcterms:created>
  <dc:creator>Patrick J. Mooney</dc:creator>
  <dc:description/>
  <dc:language>en-US</dc:language>
  <cp:lastModifiedBy>Patrick J. Mooney</cp:lastModifiedBy>
  <dcterms:modified xsi:type="dcterms:W3CDTF">2012-01-29T03:52:49Z</dcterms:modified>
  <cp:revision>9</cp:revision>
  <dc:subject/>
  <dc:title>Slide 1</dc:title>
</cp:coreProperties>
</file>